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75C-5A67-4337-BE88-AC1634079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134-8F40-425A-970A-4163AD91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BA5-FACD-4360-86B0-9E0EE735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913-7893-430C-BCBC-4471C5AB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595-0B97-4C8A-8876-AFCD9235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B0E-32D6-4445-AA67-9D76A647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4AE4-1043-46B9-9CA4-0F598111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ACA-22F6-45AD-A653-A26B7BBB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F37-4022-4480-B0CF-1684D57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EE3-1C04-4E57-8236-C4F7C014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5A6-6C66-4163-8EF5-C8A287C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2D3-6529-49A6-A183-ED2A3961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3ED7-CBAE-48B6-94F3-06293E1820F6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484280"/>
            <a:ext cx="741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Demi Cond"/>
              </a:rPr>
              <a:t>PRONUMELE PERSONAL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Demi Cond"/>
              <a:ea typeface="Franklin Gothic Demi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0920" y="259560"/>
            <a:ext cx="86421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Alc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ă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uie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ş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te enun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ţ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uri 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î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n care s</a:t>
            </a: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ă</a:t>
            </a:r>
            <a:r>
              <a:rPr b="1" lang="it-IT" sz="2800" spc="-1" strike="noStrike">
                <a:solidFill>
                  <a:srgbClr val="ff0066"/>
                </a:solidFill>
                <a:latin typeface="Times New Roman"/>
              </a:rPr>
              <a:t> exis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761760"/>
            <a:ext cx="8640720" cy="3020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1. 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Pronume personal, persoana a II-a, num</a:t>
            </a: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ă</a:t>
            </a:r>
            <a:r>
              <a:rPr b="1" lang="en-US" sz="2400" spc="-1" strike="noStrike">
                <a:solidFill>
                  <a:srgbClr val="3333cc"/>
                </a:solidFill>
                <a:latin typeface="Arial Rounded MT Bold"/>
              </a:rPr>
              <a:t>r plural</a:t>
            </a: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Arial Rounded MT Bold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2. </a:t>
            </a: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Pronume personal, persoana I, n</a:t>
            </a: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umăr</a:t>
            </a:r>
            <a:r>
              <a:rPr b="1" lang="en-US" sz="2400" spc="-1" strike="noStrike">
                <a:solidFill>
                  <a:srgbClr val="ff33cc"/>
                </a:solidFill>
                <a:latin typeface="Arial Rounded MT Bold"/>
              </a:rPr>
              <a:t> singular</a:t>
            </a: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33cc"/>
                </a:solidFill>
                <a:latin typeface="Arial Rounded MT Bold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3. </a:t>
            </a:r>
            <a:r>
              <a:rPr b="1" lang="en-US" sz="2400" spc="-1" strike="noStrike">
                <a:solidFill>
                  <a:srgbClr val="660066"/>
                </a:solidFill>
                <a:latin typeface="Arial Rounded MT Bold"/>
              </a:rPr>
              <a:t>Pronume personal, persoana a III-a, num</a:t>
            </a: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ă</a:t>
            </a:r>
            <a:r>
              <a:rPr b="1" lang="en-US" sz="2400" spc="-1" strike="noStrike">
                <a:solidFill>
                  <a:srgbClr val="660066"/>
                </a:solidFill>
                <a:latin typeface="Arial Rounded MT Bold"/>
              </a:rPr>
              <a:t>r plural</a:t>
            </a: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66"/>
                </a:solidFill>
                <a:latin typeface="Arial Rounded MT Bold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Arial Rounded MT Bold"/>
              </a:rPr>
              <a:t>4. </a:t>
            </a: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Pronume personal, persoana I, num</a:t>
            </a:r>
            <a:r>
              <a:rPr b="1" lang="ro-RO" sz="2400" spc="-1" strike="noStrike">
                <a:solidFill>
                  <a:srgbClr val="cc3300"/>
                </a:solidFill>
                <a:latin typeface="Arial Rounded MT Bold"/>
              </a:rPr>
              <a:t>ă</a:t>
            </a: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r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3300"/>
                </a:solidFill>
                <a:latin typeface="Arial Rounded MT Bold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3933000"/>
            <a:ext cx="871380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Subliniază</a:t>
            </a:r>
            <a:r>
              <a:rPr b="1" lang="pt-BR" sz="3200" spc="-1" strike="noStrike">
                <a:solidFill>
                  <a:srgbClr val="ff0066"/>
                </a:solidFill>
                <a:latin typeface="Times New Roman"/>
              </a:rPr>
              <a:t> forma corect</a:t>
            </a: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ă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437000"/>
            <a:ext cx="8713800" cy="22269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Tu / Eu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ş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tii s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ă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cânţi la vioară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Ei / Noi vom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confecţiona felicitări </a:t>
            </a: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Voi / Ea v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ă pregătiţi zilnic lecţii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Ea / Noi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ş</a:t>
            </a: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i prietenele ei se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duc în parc să se joace</a:t>
            </a:r>
            <a:r>
              <a:rPr b="1" lang="it-IT" sz="28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cc"/>
                </a:solidFill>
                <a:latin typeface="Arial Narrow"/>
              </a:rPr>
              <a:t>Eu / Ei 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ş</a:t>
            </a:r>
            <a:r>
              <a:rPr b="1" lang="fr-FR" sz="2800" spc="-1" strike="noStrike">
                <a:solidFill>
                  <a:srgbClr val="3333cc"/>
                </a:solidFill>
                <a:latin typeface="Arial Narrow"/>
              </a:rPr>
              <a:t>i-au</a:t>
            </a:r>
            <a:r>
              <a:rPr b="1" lang="ro-RO" sz="2800" spc="-1" strike="noStrike">
                <a:solidFill>
                  <a:srgbClr val="3333cc"/>
                </a:solidFill>
                <a:latin typeface="Arial Narrow"/>
              </a:rPr>
              <a:t> scris corect tema</a:t>
            </a:r>
            <a:r>
              <a:rPr b="1" lang="fr-FR" sz="2800" spc="-1" strike="noStrike">
                <a:solidFill>
                  <a:srgbClr val="3333cc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260280"/>
            <a:ext cx="849600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 Rounded MT Bold"/>
              </a:rPr>
              <a:t>Subliniaţi numai pronumele personale din următoarea serie de cuvi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197000"/>
            <a:ext cx="8496000" cy="1373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c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âine, vine, tu, nămol, ele, film, iar, 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un, 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voi, moţat, el , dânsul, în,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 Andrei,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 ea, dar</a:t>
            </a:r>
            <a:r>
              <a:rPr b="1" lang="en-US" sz="2800" spc="-1" strike="noStrike">
                <a:solidFill>
                  <a:srgbClr val="0066ff"/>
                </a:solidFill>
                <a:latin typeface="Arial Rounded MT Bold"/>
              </a:rPr>
              <a:t>, </a:t>
            </a:r>
            <a:r>
              <a:rPr b="1" lang="ro-RO" sz="2800" spc="-1" strike="noStrike">
                <a:solidFill>
                  <a:srgbClr val="0066ff"/>
                </a:solidFill>
                <a:latin typeface="Arial Rounded MT Bold"/>
              </a:rPr>
              <a:t>eu, dânsa, bunicul, cu, noi, pomi, dânsele.</a:t>
            </a:r>
            <a:r>
              <a:rPr b="1" lang="en-US" sz="2800" spc="-1" strike="noStrike">
                <a:solidFill>
                  <a:srgbClr val="ff66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852640"/>
            <a:ext cx="864216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 Rounded MT Bold"/>
              </a:rPr>
              <a:t>Uniţi fiecare pronume personal cu caseta corespunzăto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4869000"/>
            <a:ext cx="33116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I-a, nr. si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3933720"/>
            <a:ext cx="33116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-a, nr. pl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5877000"/>
            <a:ext cx="331164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-a, nr si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877000"/>
            <a:ext cx="3311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-a, nr. pl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941720"/>
            <a:ext cx="3311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I-a, nr. pl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3933720"/>
            <a:ext cx="33112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Arial"/>
              </a:rPr>
              <a:t>Pronume personal, persoana a II-a, nr. si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39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50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5661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422100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300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n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00720" y="623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4941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v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24360" y="602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4653000"/>
            <a:ext cx="1008360" cy="5047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188640"/>
            <a:ext cx="864216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Times New Roman"/>
              </a:rPr>
              <a:t>Precizează pronumele corespunzătoare următoarelor serii de cuvinte care exprimă acţiu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912600"/>
            <a:ext cx="8642160" cy="3080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învăţ, cumpăr,  desenez                               - 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a mers, aleargă, va cânta </a:t>
            </a: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                        -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priveşti, vei patina, ai întârziat                   - 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veţi învăţa, alergaţi, aţi priceput                - .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vom pleca, desenăm, pregătim                  - ...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priveau, aşteptau, cărau, zburdau            - ....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4149000"/>
            <a:ext cx="85708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Subliniază pronumele person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439880"/>
            <a:ext cx="8569080" cy="2226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În tabără voi aţi povestit despre 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Astăzi, el citeşte poezii de </a:t>
            </a: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George Co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şbu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Noi am plecat spre cas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Eu sunt încântat de cadoul primit de la m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765000"/>
            <a:ext cx="8785440" cy="94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8000"/>
                </a:solidFill>
                <a:latin typeface="Arial"/>
              </a:rPr>
              <a:t>Completează spaţiile punctate astfel încât să eviţi repetarea numelui de persoană în al doilea enun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700280"/>
            <a:ext cx="8785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1. Dan face parte din echipa de tenis a şcolii.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....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se antrenează cu multă seriozit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2637000"/>
            <a:ext cx="8786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2. Elena scrie o compunere despre primăvară .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.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îşi alege cu grijă cuvint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3573360"/>
            <a:ext cx="878688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3. Bogdan şi Florin merg la olimpiada de română. 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.…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vor să obţină rezultate foarte bu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4508640"/>
            <a:ext cx="878544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4. Elena şi Mirela sunt  fericite.  </a:t>
            </a:r>
            <a:r>
              <a:rPr b="1" lang="ro-RO" sz="2800" spc="-1" strike="noStrike">
                <a:solidFill>
                  <a:srgbClr val="ff0000"/>
                </a:solidFill>
                <a:latin typeface="Arial Narrow"/>
              </a:rPr>
              <a:t>….</a:t>
            </a: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 au primit diplome la concursul de î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1700280"/>
            <a:ext cx="64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549360"/>
            <a:ext cx="87138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Arial Rounded MT Bold"/>
              </a:rPr>
              <a:t>Descoperiţi pronumele personale care se ascund în cuvintele următaoare după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484280"/>
            <a:ext cx="8713800" cy="1800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drap</a:t>
            </a:r>
            <a:r>
              <a:rPr b="1" lang="ro-RO" sz="2800" spc="-1" strike="noStrike">
                <a:solidFill>
                  <a:srgbClr val="0000ff"/>
                </a:solidFill>
                <a:latin typeface="Arial Rounded MT Bold"/>
              </a:rPr>
              <a:t>el, </a:t>
            </a: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voinic, jaluzele, volei, noiembrie, mătură,</a:t>
            </a: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teatru,  Angela, greutate, jupâneasă, băieţel, </a:t>
            </a:r>
            <a:r>
              <a:rPr b="1" lang="ro-RO" sz="2400" spc="-1" strike="noStrike">
                <a:solidFill>
                  <a:srgbClr val="a50021"/>
                </a:solidFill>
                <a:latin typeface="Arial"/>
              </a:rPr>
              <a:t>trei</a:t>
            </a:r>
            <a:r>
              <a:rPr b="0" lang="ro-RO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a50021"/>
                </a:solidFill>
                <a:latin typeface="Arial Rounded MT Bold"/>
              </a:rPr>
              <a:t>turneu, telefon, împreună, voios, grea, elev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3500280"/>
            <a:ext cx="871380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Scrie enunţuri  în care cuvântul  ,, noi’’ să fie pe rând, pronume şi adject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581360"/>
            <a:ext cx="8713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5157720"/>
            <a:ext cx="8713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692280"/>
            <a:ext cx="8569080" cy="9471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66"/>
                </a:solidFill>
                <a:latin typeface="Arial Rounded MT Bold"/>
              </a:rPr>
              <a:t>Completaţi enunţurile cu unul din pronumele pers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628640"/>
            <a:ext cx="8569080" cy="6119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citesc o carte de poveşt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aţi pregătit o piesă de teatru pentru serba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au primit note mari la testul de la ştiinţe.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mi-a împrumutat culegerea de matematică.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..... ai câteva absenţe nemotivate.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a var</a:t>
            </a: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ă </a:t>
            </a:r>
            <a:r>
              <a:rPr b="1" lang="ro-RO" sz="2800" spc="-1" strike="noStrike">
                <a:solidFill>
                  <a:srgbClr val="a50021"/>
                </a:solidFill>
                <a:latin typeface="Arial"/>
              </a:rPr>
              <a:t>.... </a:t>
            </a: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plecăm în expediţie pe Ceahlău.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00cc"/>
                </a:solidFill>
                <a:latin typeface="Arial"/>
              </a:rPr>
              <a:t>.....</a:t>
            </a:r>
            <a:r>
              <a:rPr b="1" lang="ro-RO" sz="2800" spc="-1" strike="noStrike">
                <a:solidFill>
                  <a:srgbClr val="0000ff"/>
                </a:solidFill>
                <a:latin typeface="Arial"/>
              </a:rPr>
              <a:t> este cea mai bună prietenă a familiei me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260280"/>
            <a:ext cx="8209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Arial Rounded MT Bold"/>
              </a:rPr>
              <a:t>Treceţi pronume personale de la numărul plural la numărul singular şi transcrie enunţurile obţinute </a:t>
            </a:r>
            <a:r>
              <a:rPr b="0" lang="ro-RO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19700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1. Ei dansează cu 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119700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70028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2. Voi, mai învăţaţi cu 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70028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276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278136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2276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3. Noi vorbim cu 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278136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4. Ele se întâlnesc cu 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4075560"/>
            <a:ext cx="835344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ff"/>
                </a:solidFill>
                <a:latin typeface="Arial Rounded MT Bold"/>
              </a:rPr>
              <a:t>Subliniaţi forma corectă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578840"/>
            <a:ext cx="849780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1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i  </a:t>
            </a:r>
            <a:r>
              <a:rPr b="1" lang="ro-RO" sz="2400" spc="-1" strike="noStrike">
                <a:solidFill>
                  <a:srgbClr val="0080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i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au fost prietenii m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2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u </a:t>
            </a:r>
            <a:r>
              <a:rPr b="1" lang="ro-RO" sz="2400" spc="-1" strike="noStrike">
                <a:solidFill>
                  <a:srgbClr val="0080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u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îmi pregătesc singur tem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3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l </a:t>
            </a:r>
            <a:r>
              <a:rPr b="1" lang="ro-RO" sz="2400" spc="-1" strike="noStrike">
                <a:solidFill>
                  <a:srgbClr val="0080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l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a renunţat să meargă în excurs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4.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a 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a 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prezintă spectacolul pentru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i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i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5. Zilnic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ieu 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/ </a:t>
            </a:r>
            <a:r>
              <a:rPr b="1" lang="ro-RO" sz="2400" spc="-1" strike="noStrike">
                <a:solidFill>
                  <a:srgbClr val="ff0000"/>
                </a:solidFill>
                <a:latin typeface="Arial Rounded MT Bold"/>
              </a:rPr>
              <a:t>eu</a:t>
            </a:r>
            <a:r>
              <a:rPr b="1" lang="ro-RO" sz="2400" spc="-1" strike="noStrike">
                <a:solidFill>
                  <a:srgbClr val="009900"/>
                </a:solidFill>
                <a:latin typeface="Arial Rounded MT Bold"/>
              </a:rPr>
              <a:t> merg cu bicicleta la şcoal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3284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5. Noi plecăm cu e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59280" y="3284640"/>
            <a:ext cx="3889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ff"/>
                </a:solidFill>
                <a:latin typeface="Arial"/>
              </a:rPr>
              <a:t>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476280"/>
            <a:ext cx="8748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Arial Rounded MT Bold"/>
              </a:rPr>
              <a:t>Analizaţi pronumele personale din textul de mai jos arătând numărul şi persoana 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484280"/>
            <a:ext cx="878544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,, - Dragii mamii copilaşi, eu mă duc în pădure după mâncare. Voi încuiaţi uşa după mine. Auzit-aţi ce-am spus eu? 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- Da mămucă, ziseră ei.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- Pot să am încredere în voi?                                            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ff"/>
                </a:solidFill>
                <a:latin typeface="Arial"/>
              </a:rPr>
              <a:t>- Da, mămucă! Noi suntem o dată băieţi.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95280" y="3645000"/>
          <a:ext cx="8353440" cy="2889000"/>
        </p:xfrm>
        <a:graphic>
          <a:graphicData uri="http://schemas.openxmlformats.org/drawingml/2006/table">
            <a:tbl>
              <a:tblPr/>
              <a:tblGrid>
                <a:gridCol w="3097080"/>
                <a:gridCol w="223200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ronumele perso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ersoan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umăru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IULIA</cp:lastModifiedBy>
  <dcterms:modified xsi:type="dcterms:W3CDTF">2010-02-06T19:02:14Z</dcterms:modified>
  <cp:revision>70</cp:revision>
  <dc:subject/>
  <dc:title>PRONUMELE PERSONAL</dc:title>
</cp:coreProperties>
</file>